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7733-B58F-4196-A64E-247C1517E25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lly video to introduce the topic…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Photosynthesis rap: (mentions light reactions &amp; Calvin Cycle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pE82qtKSSH4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22A3-C1D0-431C-A865-17F9451D61C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howplantswork.com/2009/02/12/photosynthesis-and-global-weirding-how-heat-and-drought-affect-photosynthesis-part-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2E82-1465-42BB-B386-ED1D0ECA794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AC5D-0842-4B5B-9E50-32E63971B75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B3A2-E460-4F97-BD03-7FF4B665B76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lrrpublic.cli.det.nsw.edu.au/lrrSecure/Sites/LRRView/7397/applets/Living_Things_Database/livingthings/images/willow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2897-83D5-4084-876E-30F07A2C4E0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3940-0C17-4944-809C-9C645A95420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Absorption spectrum indicates wavelengths of light absorbed by a pigment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uic.edu/classes/bios/bios100/lecturesf04am/lect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elman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experiments (1882);  strand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pirogyra (green alga), water, aerobic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B334-6BFA-4037-BD36-BC32FFB0E78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F5A0-019E-4BD9-B0F1-590C7ABCD95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A787-9804-44A2-9767-F90424BD98D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photochembgsu.com/students/maria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es.midlandstech.edu/carterp/courses/bio101/labquiz3/ss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2C56-8A31-4039-9E88-E249A8D31CE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0BDF-1757-4C87-90CA-0ECD8B046F1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1E40-8A3A-41E3-BF0E-D9F1F99D9D1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A699-A2B4-4223-B8A1-EE429D728D6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3F6-3E9B-4506-B1D3-6F55C93E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612-2190-4CD1-BD7A-D824B38F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DEB-91C5-4DBD-8ADC-BEB75868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0DC-DD73-4507-BF85-05A3C8F9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C92-65B2-4340-8E69-91AB51E3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51E-D9EF-4A44-968F-EC09730B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805-9221-4A47-BE6F-DA7BA781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65E-5C21-47D5-ABFF-4CFE186E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367-A1B1-45C9-833B-9EFCF2C1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25F-7FDD-4F77-BCA8-0361A4FB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EDF-9AFB-491E-B6BF-2129755B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26B-CB81-426B-ACA6-0ED59C35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A6A5-1E8E-4180-826C-BC297EC6B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1_uez5WX1o" TargetMode="External"/><Relationship Id="rId2" Type="http://schemas.openxmlformats.org/officeDocument/2006/relationships/hyperlink" Target="http://www.youtube.com/watch?v=C1_uez5WX1o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-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youtube.com/watch?v=C1_uez5WX1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photosynth_summary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reen Leaves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0035023-Tea_leaf,_light_micrograph-SPL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toma1"/>
          <p:cNvPicPr/>
          <p:nvPr/>
        </p:nvPicPr>
        <p:blipFill>
          <a:blip r:embed="rId1"/>
          <a:stretch/>
        </p:blipFill>
        <p:spPr>
          <a:xfrm>
            <a:off x="3139920" y="1600200"/>
            <a:ext cx="286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hloroplastsfigure1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hlorophyll_a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romagnetic-spectrum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000000"/>
                </a:solidFill>
                <a:latin typeface="Arial"/>
              </a:rPr>
              <a:t>Jan Baptist van Helmont (1579-1644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ne of the first scientists to study what makes plants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inferred from these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willow.gif"/>
          <p:cNvPicPr/>
          <p:nvPr/>
        </p:nvPicPr>
        <p:blipFill>
          <a:blip r:embed="rId1"/>
          <a:stretch/>
        </p:blipFill>
        <p:spPr>
          <a:xfrm>
            <a:off x="971640" y="3619440"/>
            <a:ext cx="66960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ook outsi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absorption-spectrum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ig1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f a photon of 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 in chlorophy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transfer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hotosystem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graph2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photosynthesis_equation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ergy from the Sun to synthesize complex organic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examples of photoautotrop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5-10-22T03:10:30Z</dcterms:modified>
  <cp:revision>106</cp:revision>
  <dc:subject/>
  <dc:title>Slide 1</dc:title>
</cp:coreProperties>
</file>